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8E8D-5C15-4255-9716-A47F91DA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549-5E1F-41E1-BC6D-282B593B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094-4A5E-4775-B276-DD7CB690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0E64-B86F-460C-8B33-972D1406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9F58-705E-41A3-B058-04E14503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F284-CAA6-46FB-B5DB-CAFF80AE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9201-4042-4D2F-8C3D-0FFF0050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63A4-CC5C-4313-A5C8-A6EC3AD6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5972-300D-4873-B187-6F4212C7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B22F-3BFA-4854-85B5-DD101EFA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F0C5-C48E-4BF8-A75C-ED303AFA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093-C523-45BD-B21B-A6C4468B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2005-E7EB-4439-9B40-B12C823D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6EAD-A2BF-4D2A-8181-DF252DDC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DAD9-379B-41CE-8F2D-F168CD7E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8BBB-01A5-41F7-8418-C4C59873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FF3E-D218-4687-BDCC-6AFC22A7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3A4B-FBE5-4537-92FA-14A2549E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5BF3-9D90-44A1-956A-DDBAF915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D24-E1A4-478C-AB8F-4A423DA7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359-F248-4A4F-8A98-61EC83B5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61E-D76D-4FF1-B463-962E674B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F01E-CFF8-405C-A11D-4CE3E9D4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13E-E9D8-421F-8A87-15B40E5D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6AD6-761B-4AF6-8476-8C56F2381DF6}" type="slidenum">
              <a:rPr b="0" lang="fi-FI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242F-6459-4D09-A9D2-AEFEB3CD5661}" type="slidenum">
              <a:rPr b="0" lang="fi-FI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57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3657600"/>
            <a:ext cx="838080" cy="68580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438280"/>
            <a:ext cx="1676160" cy="1219320"/>
          </a:xfrm>
          <a:prstGeom prst="smileyFace">
            <a:avLst>
              <a:gd name="adj" fmla="val 9282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12:00:09Z</dcterms:created>
  <dc:creator>atk</dc:creator>
  <dc:description/>
  <dc:language>en-US</dc:language>
  <cp:lastModifiedBy>Kurssi</cp:lastModifiedBy>
  <dcterms:modified xsi:type="dcterms:W3CDTF">2003-02-17T11:18:51Z</dcterms:modified>
  <cp:revision>5</cp:revision>
  <dc:subject/>
  <dc:title>Ei dian otsikkoa</dc:title>
</cp:coreProperties>
</file>